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type.wav" ContentType="audio/x-wav"/>
  <Override PartName="/ppt/media/image1.jpeg" ContentType="image/jpeg"/>
  <Override PartName="/ppt/media/image10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1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16-08-19T16:18:30.514000000" idx="1">
    <p:pos x="1479" y="628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ACD1-9A91-4F42-B487-F0494F2FB80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6BF9-F6B4-41A8-A812-41AF8EA95E8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FB82-CFB9-4925-B8FF-FEFE50BF2F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250920" y="9079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四则混合运算（一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线连接符 21"/>
          <p:cNvSpPr/>
          <p:nvPr/>
        </p:nvSpPr>
        <p:spPr>
          <a:xfrm>
            <a:off x="3276720" y="3429000"/>
            <a:ext cx="47512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124080" y="263700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混合运算（三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1739880" y="2852640"/>
            <a:ext cx="628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今年奶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。几年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人合起来正好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4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9"/>
          <p:cNvSpPr/>
          <p:nvPr/>
        </p:nvSpPr>
        <p:spPr>
          <a:xfrm>
            <a:off x="1332000" y="297324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计算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今年的年龄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减去年龄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除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2340000" y="2646360"/>
            <a:ext cx="496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7+33+7=97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9-97=12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÷3=4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后三人的年龄合起来正好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 rot="18297600">
            <a:off x="6689160" y="4312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84360" y="436572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9"/>
          <p:cNvSpPr/>
          <p:nvPr/>
        </p:nvSpPr>
        <p:spPr>
          <a:xfrm>
            <a:off x="2050920" y="1773360"/>
            <a:ext cx="489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红红买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盒水彩笔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教辅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水彩笔的单价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辅书的单价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知道红红花了多少元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3276720" y="3708360"/>
            <a:ext cx="318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4+13×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4+3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53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红红花了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。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765000"/>
            <a:ext cx="2471760" cy="1727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9"/>
          <p:cNvSpPr/>
          <p:nvPr/>
        </p:nvSpPr>
        <p:spPr>
          <a:xfrm>
            <a:off x="1503360" y="249084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求笔记本和教辅书的总价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加法的小括号丢了。因为购买的水彩笔和教辅书的数量相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我们可以先求出水彩笔和教辅书的单价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用单价和乘数量就是总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77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5"/>
          <p:cNvSpPr/>
          <p:nvPr/>
        </p:nvSpPr>
        <p:spPr>
          <a:xfrm rot="18297600">
            <a:off x="6164280" y="48290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81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2" name="矩形 20"/>
          <p:cNvSpPr/>
          <p:nvPr/>
        </p:nvSpPr>
        <p:spPr>
          <a:xfrm rot="18297600">
            <a:off x="5233680" y="21657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"/>
          <p:cNvSpPr/>
          <p:nvPr/>
        </p:nvSpPr>
        <p:spPr>
          <a:xfrm>
            <a:off x="2649240" y="3892680"/>
            <a:ext cx="309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14+13)×3=81(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或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3×3+14×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39+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81(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红红花了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1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2289240" y="1841400"/>
            <a:ext cx="326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4+13×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4+3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53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红红花了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。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F:\七彩课堂插图板式封面\排版用图标、页眉页脚\标题jpg\读读比比.jpg"/>
          <p:cNvPicPr/>
          <p:nvPr/>
        </p:nvPicPr>
        <p:blipFill>
          <a:blip r:embed="rId1"/>
          <a:srcRect l="16272" t="13742" r="0" b="0"/>
          <a:stretch/>
        </p:blipFill>
        <p:spPr>
          <a:xfrm>
            <a:off x="6496200" y="852480"/>
            <a:ext cx="2170080" cy="15638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5"/>
          <p:cNvSpPr/>
          <p:nvPr/>
        </p:nvSpPr>
        <p:spPr>
          <a:xfrm>
            <a:off x="781200" y="1928880"/>
            <a:ext cx="77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择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正确答案的序号填在括号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4×7=238,238-42=196,84÷2=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个算式组成一个综合算式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34×7-84÷2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B.34×7-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238-84÷2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D.238-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同侧圆角矩形 31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50" descr="kt140"/>
          <p:cNvPicPr/>
          <p:nvPr/>
        </p:nvPicPr>
        <p:blipFill>
          <a:blip r:embed="rId2"/>
          <a:stretch/>
        </p:blipFill>
        <p:spPr>
          <a:xfrm>
            <a:off x="252360" y="4941720"/>
            <a:ext cx="1438200" cy="13622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5"/>
          <p:cNvSpPr/>
          <p:nvPr/>
        </p:nvSpPr>
        <p:spPr>
          <a:xfrm>
            <a:off x="6462720" y="3444840"/>
            <a:ext cx="8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A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同侧圆角矩形 37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"/>
          <p:cNvSpPr/>
          <p:nvPr/>
        </p:nvSpPr>
        <p:spPr>
          <a:xfrm>
            <a:off x="2627280" y="2060640"/>
            <a:ext cx="6289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×8+81÷3      24×5+27×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9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×5+24×8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88÷4+72÷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2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12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43"/>
          <p:cNvSpPr/>
          <p:nvPr/>
        </p:nvSpPr>
        <p:spPr>
          <a:xfrm>
            <a:off x="826920" y="1739880"/>
            <a:ext cx="224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计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1979640" y="17874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和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小时一共能吃多少只害虫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5"/>
          <p:cNvSpPr/>
          <p:nvPr/>
        </p:nvSpPr>
        <p:spPr>
          <a:xfrm>
            <a:off x="2627280" y="4581360"/>
            <a:ext cx="65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1+1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41×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328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只）答：啄木鸟和青蛙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时一共能吃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28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只害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AF108.EPS" descr="id:2147508582;FounderCES"/>
          <p:cNvPicPr/>
          <p:nvPr/>
        </p:nvPicPr>
        <p:blipFill>
          <a:blip r:embed="rId2"/>
          <a:stretch/>
        </p:blipFill>
        <p:spPr>
          <a:xfrm>
            <a:off x="2540160" y="2637000"/>
            <a:ext cx="4235400" cy="1800000"/>
          </a:xfrm>
          <a:prstGeom prst="rect">
            <a:avLst/>
          </a:prstGeom>
          <a:ln w="0">
            <a:noFill/>
          </a:ln>
        </p:spPr>
      </p:pic>
      <p:pic>
        <p:nvPicPr>
          <p:cNvPr id="203" name="AF108A.EPS" descr="id:2147508568;FounderCES"/>
          <p:cNvPicPr/>
          <p:nvPr/>
        </p:nvPicPr>
        <p:blipFill>
          <a:blip r:embed="rId3"/>
          <a:stretch/>
        </p:blipFill>
        <p:spPr>
          <a:xfrm>
            <a:off x="1763640" y="1830240"/>
            <a:ext cx="258840" cy="600120"/>
          </a:xfrm>
          <a:prstGeom prst="rect">
            <a:avLst/>
          </a:prstGeom>
          <a:ln w="0">
            <a:noFill/>
          </a:ln>
        </p:spPr>
      </p:pic>
      <p:pic>
        <p:nvPicPr>
          <p:cNvPr id="204" name="AF108B.EPS" descr="id:2147508575;FounderCES"/>
          <p:cNvPicPr/>
          <p:nvPr/>
        </p:nvPicPr>
        <p:blipFill>
          <a:blip r:embed="rId4"/>
          <a:stretch/>
        </p:blipFill>
        <p:spPr>
          <a:xfrm>
            <a:off x="2468520" y="1844640"/>
            <a:ext cx="355680" cy="3970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9"/>
          <p:cNvSpPr/>
          <p:nvPr/>
        </p:nvSpPr>
        <p:spPr>
          <a:xfrm>
            <a:off x="826920" y="19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187280" y="1773360"/>
            <a:ext cx="67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工人师傅修一条路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前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天每天修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25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米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接下来的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天每天修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80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米。这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天工人师傅共修路多少米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5"/>
          <p:cNvSpPr/>
          <p:nvPr/>
        </p:nvSpPr>
        <p:spPr>
          <a:xfrm>
            <a:off x="3276720" y="3568680"/>
            <a:ext cx="3527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5×3+80×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75+3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395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：这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天工人师傅共修路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95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900000" y="41688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主动参与探索算理、算法的过程，感受数学与生活的联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900000" y="2924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用两级三步或带小括号的混合运算解决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00000" y="1700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两级三步混合运算的计算顺序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能正确地计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187280" y="1747800"/>
            <a:ext cx="6985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件上衣比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裙子多花多少元钱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3276720" y="4292640"/>
            <a:ext cx="3795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76×2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－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2×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52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－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8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64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：买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件上衣比买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条裙子多花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4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钱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AF110.EPS" descr="id:2147508596;FounderCES"/>
          <p:cNvPicPr/>
          <p:nvPr/>
        </p:nvPicPr>
        <p:blipFill>
          <a:blip r:embed="rId2"/>
          <a:stretch/>
        </p:blipFill>
        <p:spPr>
          <a:xfrm>
            <a:off x="2781360" y="2408400"/>
            <a:ext cx="3317760" cy="15364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20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AutoShape 27"/>
          <p:cNvSpPr/>
          <p:nvPr/>
        </p:nvSpPr>
        <p:spPr>
          <a:xfrm>
            <a:off x="5867280" y="1227240"/>
            <a:ext cx="2808360" cy="1968480"/>
          </a:xfrm>
          <a:prstGeom prst="wedgeRoundRectCallout">
            <a:avLst>
              <a:gd name="adj1" fmla="val -66435"/>
              <a:gd name="adj2" fmla="val -7537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混合运算的运算中如果有小括号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先算小括号里面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24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矩形 15"/>
          <p:cNvSpPr/>
          <p:nvPr/>
        </p:nvSpPr>
        <p:spPr>
          <a:xfrm>
            <a:off x="900000" y="4149720"/>
            <a:ext cx="7559640" cy="1556280"/>
          </a:xfrm>
          <a:prstGeom prst="rect">
            <a:avLst/>
          </a:prstGeom>
          <a:solidFill>
            <a:srgbClr val="558ed5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两级三步运算的运算顺序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小括号的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要先算小括号里面的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没有小括号时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如果有两个乘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除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法与加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减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法混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可同时计算乘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除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法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算加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减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476360" y="2637000"/>
            <a:ext cx="3322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0÷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8+16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301760" y="3324240"/>
            <a:ext cx="3346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+120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2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03360" y="4129200"/>
            <a:ext cx="3154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×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-80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442120" y="4146480"/>
            <a:ext cx="235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×6+60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405400" y="2649600"/>
            <a:ext cx="2662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÷4+28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405400" y="3460680"/>
            <a:ext cx="2338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-72÷4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33840" y="2637000"/>
            <a:ext cx="933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502160" y="3452760"/>
            <a:ext cx="933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8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66200" y="4146480"/>
            <a:ext cx="93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4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564320" y="2714760"/>
            <a:ext cx="100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773840" y="3549600"/>
            <a:ext cx="10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7505640" y="346068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349280" y="1619280"/>
            <a:ext cx="40338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4541760" y="4146480"/>
            <a:ext cx="933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409760" y="1585800"/>
            <a:ext cx="66229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计划给每个班配置一个保温桶和一个垃圾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1"/>
          <p:cNvGrpSpPr/>
          <p:nvPr/>
        </p:nvGrpSpPr>
        <p:grpSpPr>
          <a:xfrm>
            <a:off x="2879640" y="4665600"/>
            <a:ext cx="5697720" cy="1871640"/>
            <a:chOff x="2879640" y="4665600"/>
            <a:chExt cx="5697720" cy="1871640"/>
          </a:xfrm>
        </p:grpSpPr>
        <p:sp>
          <p:nvSpPr>
            <p:cNvPr id="80" name="AutoShape 27"/>
            <p:cNvSpPr/>
            <p:nvPr/>
          </p:nvSpPr>
          <p:spPr>
            <a:xfrm>
              <a:off x="2879640" y="5591160"/>
              <a:ext cx="3744360" cy="496440"/>
            </a:xfrm>
            <a:prstGeom prst="wedgeRoundRectCallout">
              <a:avLst>
                <a:gd name="adj1" fmla="val 66541"/>
                <a:gd name="adj2" fmla="val -604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了解了哪些数学信息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1" name="Picture 5" descr="女孩1"/>
            <p:cNvPicPr/>
            <p:nvPr/>
          </p:nvPicPr>
          <p:blipFill>
            <a:blip r:embed="rId1"/>
            <a:stretch/>
          </p:blipFill>
          <p:spPr>
            <a:xfrm>
              <a:off x="7066440" y="4665600"/>
              <a:ext cx="1510920" cy="187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CK35.EPS" descr="id:2147508331;FounderCES"/>
          <p:cNvPicPr/>
          <p:nvPr/>
        </p:nvPicPr>
        <p:blipFill>
          <a:blip r:embed="rId2"/>
          <a:srcRect l="0" t="0" r="55969" b="0"/>
          <a:stretch/>
        </p:blipFill>
        <p:spPr>
          <a:xfrm>
            <a:off x="1216080" y="2816280"/>
            <a:ext cx="3327480" cy="2085840"/>
          </a:xfrm>
          <a:prstGeom prst="rect">
            <a:avLst/>
          </a:prstGeom>
          <a:ln w="0">
            <a:noFill/>
          </a:ln>
        </p:spPr>
      </p:pic>
      <p:pic>
        <p:nvPicPr>
          <p:cNvPr id="83" name="CK35.EPS" descr="id:2147508331;FounderCES"/>
          <p:cNvPicPr/>
          <p:nvPr/>
        </p:nvPicPr>
        <p:blipFill>
          <a:blip r:embed="rId3"/>
          <a:srcRect l="44675" t="0" r="0" b="0"/>
          <a:stretch/>
        </p:blipFill>
        <p:spPr>
          <a:xfrm>
            <a:off x="4489560" y="2781360"/>
            <a:ext cx="40878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8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同侧圆角矩形 2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同侧圆角矩形 28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1853640" y="2509920"/>
            <a:ext cx="271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65×6=390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7×6=102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90+102=492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52"/>
          <p:cNvGrpSpPr/>
          <p:nvPr/>
        </p:nvGrpSpPr>
        <p:grpSpPr>
          <a:xfrm>
            <a:off x="219240" y="1814400"/>
            <a:ext cx="4047480" cy="1890720"/>
            <a:chOff x="219240" y="1814400"/>
            <a:chExt cx="4047480" cy="1890720"/>
          </a:xfrm>
        </p:grpSpPr>
        <p:sp>
          <p:nvSpPr>
            <p:cNvPr id="90" name="AutoShape 31"/>
            <p:cNvSpPr/>
            <p:nvPr/>
          </p:nvSpPr>
          <p:spPr>
            <a:xfrm>
              <a:off x="1466640" y="1814400"/>
              <a:ext cx="2800080" cy="575280"/>
            </a:xfrm>
            <a:prstGeom prst="wedgeRoundRectCallout">
              <a:avLst>
                <a:gd name="adj1" fmla="val -57944"/>
                <a:gd name="adj2" fmla="val 7989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是分步计算的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Picture 51" descr="女孩  23"/>
            <p:cNvPicPr/>
            <p:nvPr/>
          </p:nvPicPr>
          <p:blipFill>
            <a:blip r:embed="rId1"/>
            <a:stretch/>
          </p:blipFill>
          <p:spPr>
            <a:xfrm>
              <a:off x="219240" y="1912680"/>
              <a:ext cx="1322280" cy="179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组合 13"/>
          <p:cNvGrpSpPr/>
          <p:nvPr/>
        </p:nvGrpSpPr>
        <p:grpSpPr>
          <a:xfrm>
            <a:off x="4427640" y="534960"/>
            <a:ext cx="4378320" cy="2257560"/>
            <a:chOff x="4427640" y="534960"/>
            <a:chExt cx="4378320" cy="2257560"/>
          </a:xfrm>
        </p:grpSpPr>
        <p:sp>
          <p:nvSpPr>
            <p:cNvPr id="93" name="AutoShape 32"/>
            <p:cNvSpPr/>
            <p:nvPr/>
          </p:nvSpPr>
          <p:spPr>
            <a:xfrm>
              <a:off x="4427640" y="996840"/>
              <a:ext cx="3126600" cy="496440"/>
            </a:xfrm>
            <a:prstGeom prst="wedgeRoundRectCallout">
              <a:avLst>
                <a:gd name="adj1" fmla="val 58597"/>
                <a:gd name="adj2" fmla="val 1941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 </a:t>
              </a: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我也是分步计算的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Picture 51" descr="20"/>
            <p:cNvPicPr/>
            <p:nvPr/>
          </p:nvPicPr>
          <p:blipFill>
            <a:blip r:embed="rId2"/>
            <a:srcRect l="17493" t="0" r="17928" b="12227"/>
            <a:stretch/>
          </p:blipFill>
          <p:spPr>
            <a:xfrm>
              <a:off x="7410240" y="534960"/>
              <a:ext cx="1395720" cy="225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Group 54"/>
          <p:cNvGrpSpPr/>
          <p:nvPr/>
        </p:nvGrpSpPr>
        <p:grpSpPr>
          <a:xfrm>
            <a:off x="5002200" y="2519280"/>
            <a:ext cx="4054320" cy="1957320"/>
            <a:chOff x="5002200" y="2519280"/>
            <a:chExt cx="4054320" cy="1957320"/>
          </a:xfrm>
        </p:grpSpPr>
        <p:sp>
          <p:nvSpPr>
            <p:cNvPr id="96" name="AutoShape 34"/>
            <p:cNvSpPr/>
            <p:nvPr/>
          </p:nvSpPr>
          <p:spPr>
            <a:xfrm>
              <a:off x="5002200" y="2813040"/>
              <a:ext cx="2700360" cy="575280"/>
            </a:xfrm>
            <a:prstGeom prst="wedgeRoundRectCallout">
              <a:avLst>
                <a:gd name="adj1" fmla="val 59476"/>
                <a:gd name="adj2" fmla="val -33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写成了一个算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Picture 42" descr="13"/>
            <p:cNvPicPr/>
            <p:nvPr/>
          </p:nvPicPr>
          <p:blipFill>
            <a:blip r:embed="rId3"/>
            <a:stretch/>
          </p:blipFill>
          <p:spPr>
            <a:xfrm>
              <a:off x="7770600" y="2519280"/>
              <a:ext cx="1285920" cy="19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Rectangle 19"/>
          <p:cNvSpPr/>
          <p:nvPr/>
        </p:nvSpPr>
        <p:spPr>
          <a:xfrm>
            <a:off x="4942080" y="3618000"/>
            <a:ext cx="2553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65+17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82×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49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4825800" y="1663560"/>
            <a:ext cx="20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5+17=82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2×6=492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52"/>
          <p:cNvGrpSpPr/>
          <p:nvPr/>
        </p:nvGrpSpPr>
        <p:grpSpPr>
          <a:xfrm>
            <a:off x="420840" y="3830760"/>
            <a:ext cx="3646440" cy="1890720"/>
            <a:chOff x="420840" y="3830760"/>
            <a:chExt cx="3646440" cy="1890720"/>
          </a:xfrm>
        </p:grpSpPr>
        <p:sp>
          <p:nvSpPr>
            <p:cNvPr id="101" name="AutoShape 31"/>
            <p:cNvSpPr/>
            <p:nvPr/>
          </p:nvSpPr>
          <p:spPr>
            <a:xfrm>
              <a:off x="1668600" y="3830760"/>
              <a:ext cx="2398680" cy="575280"/>
            </a:xfrm>
            <a:prstGeom prst="wedgeRoundRectCallout">
              <a:avLst>
                <a:gd name="adj1" fmla="val -57935"/>
                <a:gd name="adj2" fmla="val 19871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的也可以写成一个算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Picture 51" descr="女孩  23"/>
            <p:cNvPicPr/>
            <p:nvPr/>
          </p:nvPicPr>
          <p:blipFill>
            <a:blip r:embed="rId4"/>
            <a:stretch/>
          </p:blipFill>
          <p:spPr>
            <a:xfrm>
              <a:off x="420840" y="3929040"/>
              <a:ext cx="1322640" cy="179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19"/>
          <p:cNvSpPr/>
          <p:nvPr/>
        </p:nvSpPr>
        <p:spPr>
          <a:xfrm>
            <a:off x="2894760" y="4994280"/>
            <a:ext cx="219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5×6+17×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=390+1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=492</a:t>
            </a: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oup 52"/>
          <p:cNvGrpSpPr/>
          <p:nvPr/>
        </p:nvGrpSpPr>
        <p:grpSpPr>
          <a:xfrm>
            <a:off x="523800" y="3181320"/>
            <a:ext cx="4032360" cy="2114280"/>
            <a:chOff x="523800" y="3181320"/>
            <a:chExt cx="4032360" cy="2114280"/>
          </a:xfrm>
        </p:grpSpPr>
        <p:sp>
          <p:nvSpPr>
            <p:cNvPr id="107" name="AutoShape 31"/>
            <p:cNvSpPr/>
            <p:nvPr/>
          </p:nvSpPr>
          <p:spPr>
            <a:xfrm>
              <a:off x="1755720" y="3181320"/>
              <a:ext cx="2800440" cy="575280"/>
            </a:xfrm>
            <a:prstGeom prst="wedgeRoundRectCallout">
              <a:avLst>
                <a:gd name="adj1" fmla="val -57939"/>
                <a:gd name="adj2" fmla="val 7976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加法变成了减法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" name="Picture 51" descr="女孩  23"/>
            <p:cNvPicPr/>
            <p:nvPr/>
          </p:nvPicPr>
          <p:blipFill>
            <a:blip r:embed="rId1"/>
            <a:stretch/>
          </p:blipFill>
          <p:spPr>
            <a:xfrm>
              <a:off x="523800" y="3503520"/>
              <a:ext cx="1322280" cy="17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组合 11"/>
          <p:cNvGrpSpPr/>
          <p:nvPr/>
        </p:nvGrpSpPr>
        <p:grpSpPr>
          <a:xfrm>
            <a:off x="4748040" y="2314440"/>
            <a:ext cx="3811680" cy="2257560"/>
            <a:chOff x="4748040" y="2314440"/>
            <a:chExt cx="3811680" cy="2257560"/>
          </a:xfrm>
        </p:grpSpPr>
        <p:sp>
          <p:nvSpPr>
            <p:cNvPr id="110" name="AutoShape 32"/>
            <p:cNvSpPr/>
            <p:nvPr/>
          </p:nvSpPr>
          <p:spPr>
            <a:xfrm>
              <a:off x="4748040" y="2579400"/>
              <a:ext cx="2632680" cy="496440"/>
            </a:xfrm>
            <a:prstGeom prst="wedgeRoundRectCallout">
              <a:avLst>
                <a:gd name="adj1" fmla="val 58583"/>
                <a:gd name="adj2" fmla="val 1941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我写的也是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1" name="Picture 51" descr="20"/>
            <p:cNvPicPr/>
            <p:nvPr/>
          </p:nvPicPr>
          <p:blipFill>
            <a:blip r:embed="rId2"/>
            <a:srcRect l="17493" t="0" r="17928" b="12227"/>
            <a:stretch/>
          </p:blipFill>
          <p:spPr>
            <a:xfrm>
              <a:off x="7164360" y="2314440"/>
              <a:ext cx="1395360" cy="225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Rectangle 19"/>
          <p:cNvSpPr/>
          <p:nvPr/>
        </p:nvSpPr>
        <p:spPr>
          <a:xfrm>
            <a:off x="4947120" y="3402000"/>
            <a:ext cx="205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65-17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48×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288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1042920" y="5295960"/>
            <a:ext cx="7516800" cy="1008000"/>
          </a:xfrm>
          <a:prstGeom prst="rect">
            <a:avLst/>
          </a:prstGeom>
          <a:solidFill>
            <a:srgbClr val="4f81bd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个算式里，如果有两个乘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除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法与加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减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法混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可同时计算乘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除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法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算加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减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1"/>
          <p:cNvGrpSpPr/>
          <p:nvPr/>
        </p:nvGrpSpPr>
        <p:grpSpPr>
          <a:xfrm>
            <a:off x="812880" y="1395360"/>
            <a:ext cx="7372440" cy="1963800"/>
            <a:chOff x="812880" y="1395360"/>
            <a:chExt cx="7372440" cy="1963800"/>
          </a:xfrm>
        </p:grpSpPr>
        <p:sp>
          <p:nvSpPr>
            <p:cNvPr id="115" name="AutoShape 38"/>
            <p:cNvSpPr/>
            <p:nvPr/>
          </p:nvSpPr>
          <p:spPr>
            <a:xfrm>
              <a:off x="2539440" y="1395360"/>
              <a:ext cx="5645880" cy="891000"/>
            </a:xfrm>
            <a:prstGeom prst="wedgeRoundRectCallout">
              <a:avLst>
                <a:gd name="adj1" fmla="val -61893"/>
                <a:gd name="adj2" fmla="val 1566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买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保温桶比买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垃圾桶多花多少元钱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该怎样计算呢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6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812880" y="1735920"/>
              <a:ext cx="1655640" cy="162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Rectangle 19"/>
          <p:cNvSpPr/>
          <p:nvPr/>
        </p:nvSpPr>
        <p:spPr>
          <a:xfrm>
            <a:off x="2321280" y="3911760"/>
            <a:ext cx="210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5×6-17×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=390-1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=288</a:t>
            </a: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1187280" y="2492280"/>
            <a:ext cx="695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了庆祝建校五十周年纪念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班准备装扮学校礼堂。他们计划每人折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小红花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个班一共要折多少朵小红花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5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7"/>
          <p:cNvSpPr/>
          <p:nvPr/>
        </p:nvSpPr>
        <p:spPr>
          <a:xfrm>
            <a:off x="1582560" y="2511360"/>
            <a:ext cx="64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可分开来思考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人折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小红花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列式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×5=180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;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人也折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小红花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列式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×5=190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;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把这两个班所折的小红花的朵数相加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式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+190=370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也可列出其他算式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先算出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和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一共有多少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这两个班的总人数再乘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出综合算式时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用小括号把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括起来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乘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774800" y="2852640"/>
            <a:ext cx="615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×5+38×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或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6+38)×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80+190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=74×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37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=37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个班一共要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7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小红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8:18:45Z</dcterms:modified>
  <cp:revision>392</cp:revision>
  <dc:subject>www.xkb1.com</dc:subject>
  <dc:title>www.xkb1.com</dc:title>
</cp:coreProperties>
</file>